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E3D0-A913-4879-9ABC-C42D4D407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85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05120" y="4130640"/>
            <a:ext cx="685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83AA-2A52-49FA-A182-045112119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1944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05120" y="413064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19440" y="413064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1728-7C76-4A42-AF20-7E2BF0ECB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23880" y="198108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42280" y="198108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05120" y="413064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23880" y="413064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42280" y="413064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6DAF-6DB0-47C3-B962-784A01BE8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80AFC-18BF-419F-AEEB-7109ED041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4A2F9-97AD-4933-8700-C18CD7E9F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70671-A1FE-4067-8B7C-EBF10DA29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19440" y="198108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A121C-FF3A-43AF-BEEE-D05715B5F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B41BC-AC50-43DE-B819-51DC7C24C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72391-BF4B-4C70-955F-051B7F178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19440" y="198108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05120" y="413064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DBE42-7B0B-4A7D-991B-FD09E51D6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8CE0-1394-4576-B67C-2B9978E91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1944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19440" y="413064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363D1-8288-4540-AD36-3649F077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1944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05120" y="4130640"/>
            <a:ext cx="685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4090E-83A5-4ADE-95C1-ED7546CE7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85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05120" y="4130640"/>
            <a:ext cx="685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DFAC6-6D95-4690-93D6-706BF7F22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1944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05120" y="413064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19440" y="413064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6D927-1CC4-4D2B-949A-28B4BB933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23880" y="198108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42280" y="198108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05120" y="413064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223880" y="413064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42280" y="413064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77732-7F09-48C5-A304-BCC7E300F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8E68-1F58-4A88-9A0C-B5A70888C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19440" y="198108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8EEC-B501-4DF6-B987-B793EB0AD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F4E3-1AF2-4C68-8184-848767ED8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2ED6-F313-41A7-AB1C-12AC97ED7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19440" y="198108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05120" y="413064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6CAF-3927-41C5-90D8-5F057BB83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1944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19440" y="413064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F72C-78A6-4A17-B818-16C4C3B98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1944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5120" y="4130640"/>
            <a:ext cx="685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F7C5-095D-4372-8F82-61AECDC39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2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F4A76-970E-4273-A0AF-6D1FDC2DB2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2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04148-C1A3-44DE-8CE9-0841E4171F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rebuchet MS"/>
              </a:rPr>
              <a:t>Globalization</a:t>
            </a:r>
            <a:endParaRPr b="0" i="1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5105160"/>
            <a:ext cx="6400800" cy="10666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rebuchet MS"/>
              </a:rPr>
              <a:t>Expanding Globalizatio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WHAT DO YOU BELIEVE ARE REASONS THAT PEOPLE OPPOSED THE WTO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2666880" y="-152640"/>
            <a:ext cx="807696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Opposing the WTO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133720" y="12952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re are many that oppose the trade liberalization that fosters globalization, targeting the WTO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ir point: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Trebuchet MS"/>
              </a:rPr>
              <a:t>The WTO has too much power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. It can force countries to change their regulations to make them fit into WTO rul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Trebuchet MS"/>
              </a:rPr>
              <a:t>The WTO is not democratically accountable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earings on trade disputes are closed to the public and the media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Trebuchet MS"/>
              </a:rPr>
              <a:t>The WTO  does not care enough about the problems of developing countries.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t has not forced rich countries to fully open their markets to products from developing countries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Trebuchet MS"/>
              </a:rPr>
              <a:t>The WTO has not done enough about the environment, child labor, worker’s rights, or health care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WHAT DO YOU BELIEVE ARE REASONS PEOPLE SUPPORTED THE WTO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Supporting the WTO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eople that supported the WTO said that the WTO had managed to raise – and would continue to raise- living standards around the world, providing numerous opportunities for ultimately everyone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WHAT IS ONE OF THE BIGGEST FREE TRADE AGREEMENTS THAT CANADA IS PART OF RIGHT NOW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*hint: Most recent member is Mexico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North American Free Trade Agreement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Went into effect 1998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Expanded to include Mexico in 1994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Eliminated all trade barriers between these three countrie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Different opinions arose because this was the first free trade agreement between countries with such different levels of development  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WHAT GROUPS DO YOU SUPPOSE SUPPORTED NAFTA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WHAT GROUP WERE LIKELEY TO OPPOSE IT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Changes in Economics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NAFTA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rebuchet MS"/>
              </a:rPr>
              <a:t>Canadian exports to Mexico increased fourfold (1993-2005)</a:t>
            </a: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rebuchet MS"/>
              </a:rPr>
              <a:t>Canadian exports to U.S rose $359 billion in 200 from $183 billion in 1994</a:t>
            </a: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rebuchet MS"/>
              </a:rPr>
              <a:t>Canadian investment in the U.S tripled</a:t>
            </a: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rebuchet MS"/>
              </a:rPr>
              <a:t>Canadian investment in Mexico rose 200 percent </a:t>
            </a: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rebuchet MS"/>
              </a:rPr>
              <a:t>Since NAFTA came into effect, the Canadian Economy has grown an average of 3.4 a year and 2.5 million new jobs have been created.</a:t>
            </a: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56800" y="135684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rebuchet MS"/>
              </a:rPr>
              <a:t>Poll on Public Opinion on weather they had Won or Lost as a result of NAFTA </a:t>
            </a:r>
            <a:endParaRPr b="0" i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19" name="Content Placeholder 3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6858000" cy="41148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4"/>
          <p:cNvSpPr/>
          <p:nvPr/>
        </p:nvSpPr>
        <p:spPr>
          <a:xfrm>
            <a:off x="4572000" y="2000160"/>
            <a:ext cx="1571760" cy="357120"/>
          </a:xfrm>
          <a:prstGeom prst="rect">
            <a:avLst/>
          </a:prstGeom>
          <a:solidFill>
            <a:srgbClr val="dedee5"/>
          </a:solidFill>
          <a:ln w="25560">
            <a:solidFill>
              <a:srgbClr val="eeeff2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572680" cy="20336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There were definitely positives and negatives for each country involved in NAFTA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071720" y="2000160"/>
          <a:ext cx="7500960" cy="4651560"/>
        </p:xfrm>
        <a:graphic>
          <a:graphicData uri="http://schemas.openxmlformats.org/drawingml/2006/table">
            <a:tbl>
              <a:tblPr/>
              <a:tblGrid>
                <a:gridCol w="3751200"/>
                <a:gridCol w="37497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a3377"/>
                          </a:solidFill>
                          <a:latin typeface="Trebuchet MS"/>
                        </a:rPr>
                        <a:t>NAFTA Suppor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18720">
                      <a:solidFill>
                        <a:srgbClr val="2a3377"/>
                      </a:solidFill>
                    </a:lnB>
                    <a:solidFill>
                      <a:srgbClr val="acad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a3377"/>
                          </a:solidFill>
                          <a:latin typeface="Trebuchet MS"/>
                        </a:rPr>
                        <a:t>NAFTA Oppon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18720">
                      <a:solidFill>
                        <a:srgbClr val="2a3377"/>
                      </a:solidFill>
                    </a:lnB>
                    <a:solidFill>
                      <a:srgbClr val="acadb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upporters believed that NAF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1872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e3e3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Opponents believed that NAF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1872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e3e3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ould create thousands of high paying jo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f1f1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ould cause thousands of jobs to leave Canada and the U.S. for Mex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f1f1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ould raise living standards in Canada, Mexico, and the U.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e3e3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ould create a “race to the bottom” for wages in all three count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e3e3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ould improve environmental and employment standa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f1f1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ould undermine health, environmental, and safety standa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f1f1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ould transform Mexico from a developing country to developed coun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e3e3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ould undermine the ability of member states to make their own decisio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e3e3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WHAT DO YOU BELIEVE IS MEANT BY EXPANDING GLOBALIZATION?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WHAT CAN BE A FACTOR TO EXPANDING GLOBALIZATION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Many believed that Mexico was the most negatively affected country from NAFTA. Why do you think that is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How was Canada negatively affected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The European Union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rebuchet MS"/>
              </a:rPr>
              <a:t>Created a liberalized trading area in Europe</a:t>
            </a: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rebuchet MS"/>
              </a:rPr>
              <a:t>Came into effect in 1991 after more than 40 years of negotiation</a:t>
            </a: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rebuchet MS"/>
              </a:rPr>
              <a:t>EU enables members to take advantage of the opportunities created by economic globalization while protecting them from certain aspects of globalization (pressure to reduce spending on social programs)</a:t>
            </a: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rebuchet MS"/>
              </a:rPr>
              <a:t>Also serves as a parliament</a:t>
            </a: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WHICH OF THE TWO TRADE AGREEMENTS DO YOU THINK HAS A GREATER GDP? POPULATION?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56800" y="149976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rebuchet MS"/>
              </a:rPr>
              <a:t>The European Union and NAFTA (2006)</a:t>
            </a:r>
            <a:endParaRPr b="0" i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857240" y="3000240"/>
          <a:ext cx="6858000" cy="222588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a3377"/>
                          </a:solidFill>
                          <a:latin typeface="Trebuchet MS"/>
                        </a:rPr>
                        <a:t>Categor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18720">
                      <a:solidFill>
                        <a:srgbClr val="2a3377"/>
                      </a:solidFill>
                    </a:lnB>
                    <a:solidFill>
                      <a:srgbClr val="acad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a3377"/>
                          </a:solidFill>
                          <a:latin typeface="Trebuchet MS"/>
                        </a:rPr>
                        <a:t>European Un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18720">
                      <a:solidFill>
                        <a:srgbClr val="2a3377"/>
                      </a:solidFill>
                    </a:lnB>
                    <a:solidFill>
                      <a:srgbClr val="acad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a3377"/>
                          </a:solidFill>
                          <a:latin typeface="Trebuchet MS"/>
                        </a:rPr>
                        <a:t>NAF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18720">
                      <a:solidFill>
                        <a:srgbClr val="2a3377"/>
                      </a:solidFill>
                    </a:lnB>
                    <a:solidFill>
                      <a:srgbClr val="acad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r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1872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e3e3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 324 782 sp. k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1872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e3e3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1 5888 638 sq. k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1872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e3e3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opu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f1f1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86 642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f1f1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38 993 6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f1f1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e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e3e3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e3e3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e3e3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GD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f1f1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$12.82 trillion(U.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f1f1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$15.279 trillion(U.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f1f1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GDP per Per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e3e3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$29 400 (U.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e3e3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$34 8-5 (U.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2a3377"/>
                      </a:solidFill>
                    </a:lnL>
                    <a:lnR w="5760">
                      <a:solidFill>
                        <a:srgbClr val="2a3377"/>
                      </a:solidFill>
                    </a:lnR>
                    <a:lnT w="5760">
                      <a:solidFill>
                        <a:srgbClr val="2a3377"/>
                      </a:solidFill>
                    </a:lnT>
                    <a:lnB w="5760">
                      <a:solidFill>
                        <a:srgbClr val="2a3377"/>
                      </a:solidFill>
                    </a:lnB>
                    <a:solidFill>
                      <a:srgbClr val="e3e3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900" spc="-1" strike="noStrike">
                <a:solidFill>
                  <a:srgbClr val="000000"/>
                </a:solidFill>
                <a:latin typeface="Trebuchet MS"/>
              </a:rPr>
              <a:t>How Do International Agreements And Organizations Contribute To Expanding Globalization?</a:t>
            </a:r>
            <a:endParaRPr b="0" i="1" lang="en-US" sz="3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&gt;A factor of expanding globalization is reducing trade barriers so that goods and services can move around the world easily. This is called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rebuchet MS"/>
              </a:rPr>
              <a:t>Trade Liberalization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&gt;In order for liberalization to take place these things must be removed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Tariff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Quota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Regulation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&gt;When two countries agree to eliminate all tariffs and taxes on goods and services traded between them, the result is called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rebuchet MS"/>
              </a:rPr>
              <a:t>Free Trade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&gt;Creates jobs, uses resources, and reduces the cost of consumer goods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Name the widely known, and one of the earliest developed Free Trade agreements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*hint: movie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The World Trade Organization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 WTO was established in 1995 to increase international trade by lowering trade barrier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ecisions are made by coming to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rebuchet MS"/>
              </a:rPr>
              <a:t>Consensus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- a general agreement - which all the members support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 WTO: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nsures that the terms of trade agreements are followe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ttles trade disputes between governmen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nducts trade negotiations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0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1143000" y="3611520"/>
            <a:ext cx="7238880" cy="32464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"/>
          <p:cNvPicPr/>
          <p:nvPr/>
        </p:nvPicPr>
        <p:blipFill>
          <a:blip r:embed="rId2"/>
          <a:stretch/>
        </p:blipFill>
        <p:spPr>
          <a:xfrm>
            <a:off x="2438280" y="0"/>
            <a:ext cx="4648320" cy="35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WHAT DO YOU THINK THE WTO USED TO ENFORCE DECISIONS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*hint: economic action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Sanctions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TO has the power to enfor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rebuchet MS"/>
              </a:rPr>
              <a:t>Sanctions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- economic actions such as trade boycott - to enforce  decision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TO used this power to resolve disputes in trade between nations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Example of Dispute in the WTO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2002 Canada asked the WTO to rule on a longstanding dispute with the US over softwood lumber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2006 WTO finally ruled in Canada’s favor, removing American tariffs on Canadian lumber and required the U.S to repay almost 80% of the more than 5 billion it had collected in tariffs on lumber imports from Canada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19:20:03Z</dcterms:created>
  <dc:creator>Webber Academy Webber Academy</dc:creator>
  <dc:description/>
  <cp:keywords/>
  <dc:language>en-US</dc:language>
  <cp:lastModifiedBy>HP Authorized Customer</cp:lastModifiedBy>
  <cp:lastPrinted>1904-01-01T00:00:00Z</cp:lastPrinted>
  <dcterms:modified xsi:type="dcterms:W3CDTF">2007-09-20T03:49:45Z</dcterms:modified>
  <cp:revision>24</cp:revision>
  <dc:subject/>
  <dc:title>Globalization</dc:title>
</cp:coreProperties>
</file>